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121-785A-49FE-AA8C-72256FFF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FC8-3DB8-4D8C-A3AA-EFB997D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C586F-184F-4A7E-91CF-ADF4DA61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E4D82-9810-445E-8E06-6A7B747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0F8D8-3281-447E-954F-9A64EB0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7D9B-EF98-4A2A-B124-F0529EB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BE6C0-6CE5-4B82-A34D-D1A8B5D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8F10C-368B-4AD4-9BA2-0325B21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7E98F-215C-40BC-A0D4-782EFE6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F11B-521F-43A5-ACD3-39A49D2A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2A20-140A-4EE4-B8F9-77479E38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B2EF-F722-4797-8EC7-AAE4EB41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90F-2C66-4D7B-91C3-66813BD3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586E1-D93F-48AC-B862-312063DD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0ADCA-5988-4506-A438-6907667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83B27-EB34-4E97-81CE-56627B1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33CA2-B8D3-48B8-8D76-EB3A132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CFDF-AC1F-4658-A042-E53942A7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FD943-B084-4D5E-9783-9BF06D3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D827C-BB01-40AF-84F4-8926BDF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1D499-A9BB-4B0F-8A22-03DC490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2A88E-8B40-471C-B004-ECEA61A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A2CD8-3BE3-4984-8001-069D128E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C40-DB27-48E1-9F97-F4A79B27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9A15-13C9-4F31-B45E-51002CEA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9415C-BE04-4234-9B21-987663F0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AD747-C1EB-4119-85EA-383D59C7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4906-6460-49AA-B01A-A76955C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9E4C5-481B-41DB-B8DF-D1A87CB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48933-2356-47F2-AE75-EC43325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8C8E4-1F47-4D14-AA4E-DF21339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39453-B4C4-47EE-B2AF-9706680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414E5-1AA2-4EAB-9858-66ECC75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D8377-8144-48E8-8DA0-54DE36E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9874-6CC4-4524-9E06-37C26ADC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1EF99-ECE7-4700-9A91-B7BF8FC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7955-074F-45AD-80CE-8B38951A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E77AB-C8B4-40C7-A6E9-F74C18EC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B78C3-9D17-41A4-86F2-067A776E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F5DE3-B738-4918-8149-03FCF16E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F3EA-AC5F-40CB-98B1-6021A20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B0732-852B-4AB3-82A9-22A3EA17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AEEF3-E794-4A50-8679-4EFA4574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62340-318E-4ACC-BE31-085D00C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07C7E-49B8-4873-B680-43B16BE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404-4F62-42E2-981E-1ECDE39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A3AE6-1DDD-4420-97E1-E8934C8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34794-229E-44B5-8FEF-346832E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2DCF9-C245-4D1A-A8D3-68BDE90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AE88C-29E0-40FE-A5C7-88A09F69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E53A2-CD5E-4B6B-97BD-3EB02204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1697-93FD-41DC-ACD1-395FCB2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32CB-BE5A-44A8-935B-B183336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7C7-C76C-455A-B60F-FA4C3F5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01C2-CD42-474C-BB52-1317535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7BF-8F98-4888-9151-6567309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478-F698-4ED3-A30E-CF06041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2EAF-2CFC-4904-804A-0707C09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DA1-113E-4981-8DC0-60153D2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1B84-0B87-4D09-9AD8-F64FE4C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A56-740E-4376-8666-F7B25B2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1282-C1AE-4753-9213-0F0427B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192A-95A0-4E74-94A8-D9F37CE9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21DF-5935-4554-9761-5323997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0B75-C797-424D-AB76-7BC17B2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FC7B-D30F-41A9-A70A-F233E01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DBA9-0818-4AEE-A12D-D1B0175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F05-271C-49D4-84CE-349D3C87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FE60-E31B-410F-86C2-D940EFB3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7F4E-14E8-4FB6-9A38-6245521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892B-085F-4ED3-B59F-B4A8145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32FA-C55D-4FFF-9ED5-CC99089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C5BE-E616-4326-A22B-5DEB6DC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46C6-333A-4A80-85B4-120EF1D8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601F-9061-4683-BC50-65D9BFB9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81AE-B03E-4942-9818-8D369E67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18BA-37AC-4D60-9D73-6A81507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EABA-A7AA-46B6-86A5-FD68F3BF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74C-1ECC-4C16-9D33-EB65089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4783-7F88-4597-86A7-28C531ED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5D91-9F15-4B21-9556-10BA93C8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0924-6711-49E0-907F-25171A6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250C-0CE1-4C90-AEA9-B692CC9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97CD-A1CD-4A9E-91EE-21BE48A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111F-1564-4F30-96EB-B6A1467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24BD-A99D-467C-9326-ADA2CFE4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ABA7-6D4D-40D7-83AA-860D2153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7528-FCFF-4E9B-B7BE-0334AC7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FA3A-D84F-4F83-B01F-2A14375E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6CD-E5FC-4396-9702-D555A9B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B9A4-2BCE-4F21-A560-BAEDC52A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A4E1-4666-4885-A138-F58AEEB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D863-1B28-4B76-BB7C-B28079A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370EB-66D9-4E15-A199-A1BE498E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EBDB-03A9-40D4-96D0-3E8F14DE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1E99-0D01-4DFF-B939-D1F9808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E14F-E935-4F9B-975C-1BB9014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AA56-73ED-436D-B106-A5615B1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E6BF-9E1D-4B84-9A00-CA3B109F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965E-A979-4364-8FAE-2FD329F3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CB4-E807-4ADE-A057-CBC530C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5E63-48AC-437A-A1FE-41D225EA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50641-34DC-491A-BD66-C1A8F6F9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E6B5-C5B0-4179-8B50-107270DA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2D79-9859-4B6C-8B60-7540616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56FE-6B11-4329-B1D3-54C239C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4604-2773-45BA-8247-DC35C76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2B28-0CF5-4A96-AA96-B7AF3CB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14229-2A07-4F05-8BEF-191566C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4AD8-E886-41B4-90CD-5A6E529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0FDA-805B-4248-8AF7-80F92BDB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3B8-157A-4C76-8029-B535CA3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DAE0-7AAA-43CF-8818-2A76B04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04F5-4E91-47C0-ACE7-CAA8BDEF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4B967-AE15-48B3-B0D4-DF06DAA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762D-CDEB-4FEA-B402-0960DB57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46A8-D1B1-4C6F-A231-BDCEF51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AC0E-8B6E-4858-963D-738C8DE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0AEF-C415-43A7-B784-E5002DD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1BFE-E1A5-4C78-99E8-13E141A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82FE-5E25-448A-AE2F-C20C699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7438-899B-4713-853C-85C61FE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C3C-CF3C-4FC5-AD90-1C6C763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1187-D9D0-4438-9CF0-2CEF660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11540-D00C-4E8A-B37C-9FCECF4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90B9F-AF0D-4BB6-8C7B-B998D87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76040-1DF5-43B4-B92C-9DAB5B7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2430-BF4B-47A7-8E57-A83E46AF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5B66-5596-4B2A-BFB7-621385BE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1B1C4-D901-4A9C-AE90-22F9A38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A3BE-635C-47B1-A57C-D31C67B9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5B1F-643D-4059-A925-07EC85EE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6086-A664-447D-805B-9944F8CE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ACE-E1EF-45B4-9B26-5998B4F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820E-4E43-4518-A15A-FE3D988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72D6-5A70-4203-A45D-FFC9A0F5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943A-B1B5-40FF-BCA1-F09BB0A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234D9-52B0-495A-BCE7-CE78377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D9AF-B949-439B-8116-5467F44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2A2D-DACD-42E3-834D-4C4343A1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B746-C98B-40A7-945A-F2178C22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0E273-32B1-4497-B701-FF4D513A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2DE6-5886-465D-B13B-0D4BBDD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316C-C280-40C3-BD52-881568B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BB13-AC15-4712-AA94-70F6F3E07B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594-760E-4E00-9A83-5E006922CA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E1DE-3E43-4CD3-BC34-D6FF38F4BF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70CF-D9F2-4D0A-AE21-5270CA33B7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D89-6C16-44E7-9AD4-A2B11A774A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665-6158-4217-948C-DD05103D8B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88FC-3B3B-462D-A6D9-839FD2498B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6EFE-18B0-49D7-A154-75FBAEB057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910B-CDB1-4854-980A-04EA7D19B2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48A9-AB7E-492D-9306-4FE42CB143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D84-C7AA-48B4-964B-DDA90BBBD6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8BA3-035B-42D7-9D72-B6ABA6916A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5 Česť, pôvod ani sl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, pôvod ani sl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eľkosť obe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čokoľvek kto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úde nepla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áska nášho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perly cenu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sa nás sa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Sudcom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prázdne veľké č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krása zvučných sl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lásky sú len hl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ovu ozve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Božia milosť več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tak sa poní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k bránam nekoneč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prach náš povýš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v divov v tom je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Láska v útrapá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me ňou pohŕd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niesla na ruk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ám zjav, Láska sv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môž pochop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pravdu tvojho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rieť má, kto chce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19:22Z</dcterms:modified>
  <cp:revision>23</cp:revision>
  <dc:subject/>
  <dc:title>Je veľký náš Pán, on slávy je Kráľ Nech do všetkých strán  spev vrúcnych znie chvál.</dc:title>
</cp:coreProperties>
</file>